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6494-D922-45F5-B546-8B81ED1D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1BE-F1DA-4C33-9AB9-4A181BAB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388-A3DE-48C4-B10E-C0A46768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CC78-0103-4DFD-A91C-565EEDA5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7A74-FA78-490F-822B-A2DD7343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448D-4684-42EB-9D1F-5C3F2818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DAD-2504-4E3C-8009-9532428A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B0C-C29E-45C0-9087-21BEDE41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2F94-A822-474C-99F7-AE89C272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D65-6FD2-4666-A5CD-5AD75B46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F73-1921-41F8-B4D6-26CAA690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A5BD-4FC6-4F92-A81E-9A972771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C649-CA28-40AD-9844-AF423011F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bien de temps ent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anne et le liv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066680" y="1447920"/>
            <a:ext cx="67057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bien de jou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rès la pan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lent-ils des baobab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143000" y="1066680"/>
            <a:ext cx="72388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stronome tur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vu la planète du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838080" y="990720"/>
            <a:ext cx="75438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a cru l’astronome tur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bien d’anné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rès sa découvert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remière imag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a intrigué 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ilote comme enf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importance d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sin numéro u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685800" y="838080"/>
            <a:ext cx="77724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dessin qu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réussi à donner au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’il voul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838080" y="990720"/>
            <a:ext cx="73915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dessin 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us grandiose d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v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371600" y="1447920"/>
            <a:ext cx="60958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dessin que le pil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’a pas osé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838080" y="838080"/>
            <a:ext cx="74678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nimal qu’on ne vo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s dans dessin #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219320" y="1143000"/>
            <a:ext cx="68580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so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neiges….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447920" y="1143000"/>
            <a:ext cx="632448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général, un anim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est mang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 les autre anima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295280" y="1371600"/>
            <a:ext cx="655344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type d’anim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lant que le pil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udrait collectionn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066680" y="1143000"/>
            <a:ext cx="678204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type d’oisea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représente la pai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762120" y="838080"/>
            <a:ext cx="77724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raisons pour lesquel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P ne voulait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moutons dessinés par le pil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371600" y="1219320"/>
            <a:ext cx="62485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plante comme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on met ..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a Ter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295280" y="1371600"/>
            <a:ext cx="64771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i attache u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te à la Ter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rbe: la plan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rive dans l'a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143000" y="1143000"/>
            <a:ext cx="72388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forme d’u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te après d’être plant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puis quelques semai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143000" y="1219320"/>
            <a:ext cx="66294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’un rosier 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baobab o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commu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219320" y="1523880"/>
            <a:ext cx="67816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a gorge à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oesoph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371600" y="1828800"/>
            <a:ext cx="60958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rt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066680" y="1219320"/>
            <a:ext cx="72392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re oui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ns parl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143000" y="1295280"/>
            <a:ext cx="71629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re je ne sais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ns parl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1219320" y="1905120"/>
            <a:ext cx="67816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tiliser les d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914400" y="914400"/>
            <a:ext cx="74674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on est étonné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peut _______ les yeux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066680" y="1676520"/>
            <a:ext cx="72392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andonn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3 mots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990720" y="2209680"/>
            <a:ext cx="70866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nse qu’il a rais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Être….. (3 mots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1066680" y="1752480"/>
            <a:ext cx="72392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ire ce soir ou dema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is pas mainten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4 mots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838080" y="1676520"/>
            <a:ext cx="73915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ut d’un co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écider de faire q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2 mots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914400" y="990720"/>
            <a:ext cx="754380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ler des choses qui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éress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’autre person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5 mots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143000" y="2362320"/>
            <a:ext cx="68580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ima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685800" y="685800"/>
            <a:ext cx="800100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n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on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838080" y="914400"/>
            <a:ext cx="70866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 cie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il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mma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ectif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cabula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celan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3049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P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ie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ilot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jectif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rammai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elané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143000" y="990720"/>
            <a:ext cx="73915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réponse des G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s voi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sin #1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838080" y="990720"/>
            <a:ext cx="769644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conseil des G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a profité au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lan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685800" y="990720"/>
            <a:ext cx="77724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e les G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iment surt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990720" y="914400"/>
            <a:ext cx="739116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quoi il fait parl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se mettre à la port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 GP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914400" y="1295280"/>
            <a:ext cx="73152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t le pil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comme une G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cause de ce qu’il ne voit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762120" y="838080"/>
            <a:ext cx="77724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a découvert la planè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PP, selon le pilot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838080" y="838080"/>
            <a:ext cx="769644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est-ce qu’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tilise pour voir les étoil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762120" y="838080"/>
            <a:ext cx="769608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habite le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on le pilot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609480" y="533520"/>
            <a:ext cx="762012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va-t-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vérifier u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écouverte astronomiqu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143000" y="1066680"/>
            <a:ext cx="67057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taille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lanè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838080" y="990720"/>
            <a:ext cx="72392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chef- d’œuv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son enf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rb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le cor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219320" y="914400"/>
            <a:ext cx="68580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est le pilo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pourquoi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143000" y="1066680"/>
            <a:ext cx="66294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rasion pq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ilote pourr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ur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762120" y="838080"/>
            <a:ext cx="73152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e le pilo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rche toujour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son boa ferm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838080" y="914400"/>
            <a:ext cx="75438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raison pq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ilote a décid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écrire ce liv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1523880" y="1523880"/>
            <a:ext cx="632484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è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éress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609480" y="762120"/>
            <a:ext cx="792504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ueilleux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ut-être égoïs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295280" y="1600200"/>
            <a:ext cx="670572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d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219320" y="1219320"/>
            <a:ext cx="693396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s industri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i travaill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914400" y="99072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solumment certa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qc est corr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533520" y="914400"/>
            <a:ext cx="82296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yw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ytime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762120" y="914400"/>
            <a:ext cx="7696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ressio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rb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ffici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762120" y="1295280"/>
            <a:ext cx="761976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one is sick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sheep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685800" y="914400"/>
            <a:ext cx="79246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pon hear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laugh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685800" y="838080"/>
            <a:ext cx="77724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, I’m wi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m (m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838080" y="990720"/>
            <a:ext cx="75438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e is nic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n hers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house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1066680" y="1371600"/>
            <a:ext cx="70866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on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Égar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 milieu de la m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762120" y="83808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dictateur a exigé à son peup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us________ de s’habill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’européenn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685800" y="914400"/>
            <a:ext cx="77724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ontes de fé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cent 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609480" y="838080"/>
            <a:ext cx="80010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faut arracher les raci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 mauvaises herb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__________ qu’on les distingu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371600" y="1143000"/>
            <a:ext cx="64771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était tellement choqu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 s’il a été frapp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 un coup de…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8" name="WordArt 3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L’auteur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eiges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’ar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imaux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lant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rb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br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iffici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mment s’appel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’auteur et quelles sont 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ates de sa naissance et mort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toine de Saint-Exupér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1900- 194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371600" y="1600200"/>
            <a:ext cx="70866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ilote a été décourag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peindre quand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Phyllis</cp:lastModifiedBy>
  <dcterms:modified xsi:type="dcterms:W3CDTF">2013-02-24T18:35:48Z</dcterms:modified>
  <cp:revision>75</cp:revision>
  <dc:subject/>
  <dc:title>No Slide Title</dc:title>
</cp:coreProperties>
</file>